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-3240"/>
            <a:ext cx="6864480" cy="915048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019240" y="1433520"/>
            <a:ext cx="4348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2449440" y="1433520"/>
            <a:ext cx="4348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874960" y="1433520"/>
            <a:ext cx="44604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311640" y="1433520"/>
            <a:ext cx="44604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47960" y="1433520"/>
            <a:ext cx="4446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5680" y="622440"/>
            <a:ext cx="19479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:  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5600" y="622440"/>
            <a:ext cx="214164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ch: 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24200" y="954000"/>
            <a:ext cx="15606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  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5680" y="954000"/>
            <a:ext cx="21891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mer:  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4520" y="1438200"/>
            <a:ext cx="6523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4720" y="145260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1520" y="1341360"/>
            <a:ext cx="20808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2068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0600" y="1438200"/>
            <a:ext cx="4334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272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304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9084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17600" y="1341360"/>
            <a:ext cx="33012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m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5480" y="1452600"/>
            <a:ext cx="1440" cy="30636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696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5720" y="1438200"/>
            <a:ext cx="228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4520" y="1214280"/>
            <a:ext cx="49068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for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816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79480" y="1325520"/>
            <a:ext cx="1778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65320" y="1325520"/>
            <a:ext cx="13824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29280" y="1438200"/>
            <a:ext cx="4460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284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8880" y="1325520"/>
            <a:ext cx="3780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. of re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616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9280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68880" y="121428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crip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96000" y="1438200"/>
            <a:ext cx="6634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7000" y="1452600"/>
            <a:ext cx="1800" cy="30636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35600" y="1341360"/>
            <a:ext cx="290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8328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40072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18120" y="1452600"/>
            <a:ext cx="1440" cy="30636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7664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716360" y="1501920"/>
            <a:ext cx="15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86480" y="1436760"/>
            <a:ext cx="23796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624640" y="1336680"/>
            <a:ext cx="152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66568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3360" y="1427040"/>
            <a:ext cx="22860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696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9720" y="1477800"/>
            <a:ext cx="15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16640" y="473040"/>
            <a:ext cx="2937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16640" y="598320"/>
            <a:ext cx="3510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16640" y="725400"/>
            <a:ext cx="3510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16640" y="851040"/>
            <a:ext cx="3510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= 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516640" y="977760"/>
            <a:ext cx="3510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16640" y="1103400"/>
            <a:ext cx="4078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= 1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89600" y="473040"/>
            <a:ext cx="4395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sp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89600" y="598320"/>
            <a:ext cx="382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m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89600" y="725400"/>
            <a:ext cx="382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bo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38720" y="473040"/>
            <a:ext cx="4716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stea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38720" y="598320"/>
            <a:ext cx="2937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38720" y="725400"/>
            <a:ext cx="382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de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38720" y="851040"/>
            <a:ext cx="3254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= a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38720" y="977760"/>
            <a:ext cx="3319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b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38720" y="1103400"/>
            <a:ext cx="490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= pick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38720" y="1230480"/>
            <a:ext cx="4143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= 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4316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0168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20920" y="1811160"/>
            <a:ext cx="5724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95520" y="1325520"/>
            <a:ext cx="9828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2200" y="1441440"/>
            <a:ext cx="180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9408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00360" y="1811160"/>
            <a:ext cx="11448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21040" y="1325520"/>
            <a:ext cx="16812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97080" y="1441440"/>
            <a:ext cx="180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93040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13704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57720" y="1325520"/>
            <a:ext cx="2127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6564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336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94040" y="1325520"/>
            <a:ext cx="28908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 m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0440" y="1441440"/>
            <a:ext cx="1440" cy="317520"/>
          </a:xfrm>
          <a:prstGeom prst="line">
            <a:avLst/>
          </a:prstGeom>
          <a:ln w="12600">
            <a:solidFill>
              <a:srgbClr val="919191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376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021200" y="1811160"/>
            <a:ext cx="114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76640" y="247680"/>
            <a:ext cx="7714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for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38720" y="247680"/>
            <a:ext cx="2412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2880" y="103320"/>
            <a:ext cx="447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Form for a Set of Swimming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6360" y="2028960"/>
            <a:ext cx="6276960" cy="1927080"/>
            <a:chOff x="306360" y="2028960"/>
            <a:chExt cx="6276960" cy="1927080"/>
          </a:xfrm>
        </p:grpSpPr>
        <p:grpSp>
          <p:nvGrpSpPr>
            <p:cNvPr id="122" name=""/>
            <p:cNvGrpSpPr/>
            <p:nvPr/>
          </p:nvGrpSpPr>
          <p:grpSpPr>
            <a:xfrm>
              <a:off x="379440" y="2028960"/>
              <a:ext cx="6203880" cy="198360"/>
              <a:chOff x="379440" y="2028960"/>
              <a:chExt cx="6203880" cy="19836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1090440" y="2028960"/>
                <a:ext cx="290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5707080" y="2028960"/>
                <a:ext cx="87624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379440" y="2028960"/>
                <a:ext cx="2476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803160" y="2028960"/>
                <a:ext cx="2174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2664000" y="202896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1779480" y="2028960"/>
                <a:ext cx="4478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741920" y="2028960"/>
                <a:ext cx="4618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235480" y="2039760"/>
                <a:ext cx="417600" cy="17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3398760" y="2028960"/>
                <a:ext cx="6620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076640" y="2028960"/>
                <a:ext cx="42696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16080" y="2135160"/>
              <a:ext cx="6221520" cy="612720"/>
              <a:chOff x="316080" y="2135160"/>
              <a:chExt cx="6221520" cy="612720"/>
            </a:xfrm>
          </p:grpSpPr>
          <p:sp>
            <p:nvSpPr>
              <p:cNvPr id="134" name=""/>
              <p:cNvSpPr/>
              <p:nvPr/>
            </p:nvSpPr>
            <p:spPr>
              <a:xfrm>
                <a:off x="1050840" y="213516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81040" y="216072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135252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155880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7476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113364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78640" y="2135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84920" y="2135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9768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572940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594828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616572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5873760" y="2249640"/>
                <a:ext cx="44280" cy="123480"/>
                <a:chOff x="5873760" y="2249640"/>
                <a:chExt cx="44280" cy="123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73760" y="224964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873760" y="2330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6310440" y="2135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63723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86680" y="2295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63640" y="2135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6080" y="2135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9640" y="2149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39852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60480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8480" y="2135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87012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69920" y="2135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8124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959120" y="2238480"/>
                <a:ext cx="42840" cy="134640"/>
                <a:chOff x="1959120" y="2238480"/>
                <a:chExt cx="42840" cy="1346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959120" y="22384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959120" y="2330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395440" y="2135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71680" y="2295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24964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243360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04156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35200" y="2135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698920" y="249408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43280" y="213516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65400" y="2149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830680" y="2238480"/>
                <a:ext cx="44280" cy="134640"/>
                <a:chOff x="2830680" y="2238480"/>
                <a:chExt cx="44280" cy="134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830680" y="22384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30680" y="2330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 txBox="1"/>
              <p:nvPr/>
            </p:nvSpPr>
            <p:spPr>
              <a:xfrm>
                <a:off x="312264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290520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1839960" y="2494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26080" y="213516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54480" y="2149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500688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522432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48200" y="2149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47991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80200" y="2135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54309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70320" y="213516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343368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89200" y="2135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1168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3578400" y="2249640"/>
                <a:ext cx="42840" cy="123480"/>
                <a:chOff x="3578400" y="2249640"/>
                <a:chExt cx="42840" cy="123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78400" y="224964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578400" y="2330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 txBox="1"/>
              <p:nvPr/>
            </p:nvSpPr>
            <p:spPr>
              <a:xfrm>
                <a:off x="38577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6399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48200" y="2135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409896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54480" y="2135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78400" y="2149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243320" y="2238480"/>
                <a:ext cx="44280" cy="134640"/>
                <a:chOff x="4243320" y="2238480"/>
                <a:chExt cx="44280" cy="1346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243320" y="22384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243320" y="2330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 txBox="1"/>
              <p:nvPr/>
            </p:nvSpPr>
            <p:spPr>
              <a:xfrm>
                <a:off x="452448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4317840" y="2494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12840" y="2624040"/>
              <a:ext cx="6221520" cy="612720"/>
              <a:chOff x="312840" y="2624040"/>
              <a:chExt cx="6221520" cy="612720"/>
            </a:xfrm>
          </p:grpSpPr>
          <p:sp>
            <p:nvSpPr>
              <p:cNvPr id="206" name=""/>
              <p:cNvSpPr/>
              <p:nvPr/>
            </p:nvSpPr>
            <p:spPr>
              <a:xfrm>
                <a:off x="1047600" y="262404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77800" y="264960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134928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155592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7152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13040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75400" y="2624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81680" y="2624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444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572616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59450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61628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5870520" y="2738520"/>
                <a:ext cx="44280" cy="123840"/>
                <a:chOff x="5870520" y="2738520"/>
                <a:chExt cx="44280" cy="123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70520" y="273852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70520" y="2819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6307200" y="2624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636912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83440" y="27846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60400" y="2624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2840" y="2624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640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39528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60156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5240" y="2624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86688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67040" y="2624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78000" y="2638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955880" y="2727360"/>
                <a:ext cx="42840" cy="135000"/>
                <a:chOff x="1955880" y="2727360"/>
                <a:chExt cx="4284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55880" y="27273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55880" y="281952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2392200" y="2624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8440" y="27846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224640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43036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203832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31960" y="2624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2695680" y="298296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40040" y="262404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62160" y="2638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827440" y="2727360"/>
                <a:ext cx="44280" cy="135000"/>
                <a:chOff x="2827440" y="2727360"/>
                <a:chExt cx="44280" cy="135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827440" y="2727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27440" y="2819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 txBox="1"/>
              <p:nvPr/>
            </p:nvSpPr>
            <p:spPr>
              <a:xfrm>
                <a:off x="311940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290196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1836720" y="2982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22840" y="262404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5160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0036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52214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44960" y="2638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479592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76960" y="2624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542772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67080" y="262404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4304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86320" y="2624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0844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3575160" y="2738520"/>
                <a:ext cx="42840" cy="123840"/>
                <a:chOff x="3575160" y="2738520"/>
                <a:chExt cx="42840" cy="123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575160" y="273852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575160" y="281952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 txBox="1"/>
              <p:nvPr/>
            </p:nvSpPr>
            <p:spPr>
              <a:xfrm>
                <a:off x="385452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363708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44960" y="2624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409572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51240" y="2624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75160" y="2638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4240080" y="2727360"/>
                <a:ext cx="44280" cy="135000"/>
                <a:chOff x="4240080" y="2727360"/>
                <a:chExt cx="44280" cy="135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240080" y="2727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240080" y="2819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 txBox="1"/>
              <p:nvPr/>
            </p:nvSpPr>
            <p:spPr>
              <a:xfrm>
                <a:off x="452124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4314960" y="2982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09600" y="3112920"/>
              <a:ext cx="6221520" cy="612720"/>
              <a:chOff x="309600" y="3112920"/>
              <a:chExt cx="6221520" cy="612720"/>
            </a:xfrm>
          </p:grpSpPr>
          <p:sp>
            <p:nvSpPr>
              <p:cNvPr id="278" name=""/>
              <p:cNvSpPr/>
              <p:nvPr/>
            </p:nvSpPr>
            <p:spPr>
              <a:xfrm>
                <a:off x="1044720" y="311292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74920" y="313848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34604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55268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6828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12716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72160" y="311292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78440" y="311292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9120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572292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594216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615960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867280" y="3227400"/>
                <a:ext cx="44280" cy="123840"/>
                <a:chOff x="5867280" y="3227400"/>
                <a:chExt cx="44280" cy="123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867280" y="322740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67280" y="3308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303960" y="311292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636588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80200" y="3273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57520" y="311292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9600" y="311292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3520" y="3127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9204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59832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000" y="311292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86364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63800" y="311292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7476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1952640" y="3216240"/>
                <a:ext cx="42840" cy="135000"/>
                <a:chOff x="1952640" y="3216240"/>
                <a:chExt cx="42840" cy="1350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952640" y="321624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952640" y="3308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2389320" y="311292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65200" y="3273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224316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242712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203508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29080" y="311292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2692440" y="347184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36800" y="311292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59280" y="3127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824200" y="3216240"/>
                <a:ext cx="44280" cy="135000"/>
                <a:chOff x="2824200" y="3216240"/>
                <a:chExt cx="44280" cy="135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824200" y="3216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24200" y="3308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 txBox="1"/>
              <p:nvPr/>
            </p:nvSpPr>
            <p:spPr>
              <a:xfrm>
                <a:off x="311616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289872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1833480" y="3471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19600" y="311292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48360" y="3127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500076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521820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41720" y="3127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479268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73720" y="311292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542448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3840" y="311292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342756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83080" y="311292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0520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3571920" y="3227400"/>
                <a:ext cx="42840" cy="123840"/>
                <a:chOff x="3571920" y="3227400"/>
                <a:chExt cx="42840" cy="12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571920" y="322740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71920" y="3308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 txBox="1"/>
              <p:nvPr/>
            </p:nvSpPr>
            <p:spPr>
              <a:xfrm>
                <a:off x="385128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363384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41720" y="311292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409248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48000" y="311292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71920" y="3127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237200" y="3216240"/>
                <a:ext cx="44280" cy="135000"/>
                <a:chOff x="4237200" y="3216240"/>
                <a:chExt cx="44280" cy="135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237200" y="3216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237200" y="3308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 txBox="1"/>
              <p:nvPr/>
            </p:nvSpPr>
            <p:spPr>
              <a:xfrm>
                <a:off x="451800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4311720" y="3471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1041480" y="3602160"/>
              <a:ext cx="665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71680" y="362736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8920" y="3602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75200" y="3602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796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864400" y="3716280"/>
              <a:ext cx="44280" cy="123840"/>
              <a:chOff x="5864400" y="3716280"/>
              <a:chExt cx="44280" cy="123840"/>
            </a:xfrm>
          </p:grpSpPr>
          <p:sp>
            <p:nvSpPr>
              <p:cNvPr id="356" name=""/>
              <p:cNvSpPr/>
              <p:nvPr/>
            </p:nvSpPr>
            <p:spPr>
              <a:xfrm>
                <a:off x="5864400" y="37162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4400" y="3797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300720" y="3602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76960" y="376236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4280" y="3602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360" y="3602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028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9120" y="3602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60560" y="3602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7188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949400" y="3705120"/>
              <a:ext cx="42840" cy="135000"/>
              <a:chOff x="1949400" y="3705120"/>
              <a:chExt cx="42840" cy="1350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49400" y="37051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49400" y="37972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386080" y="3602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2320" y="376236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25840" y="3602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33560" y="3602160"/>
              <a:ext cx="444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56040" y="361620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820960" y="3705120"/>
              <a:ext cx="44280" cy="135000"/>
              <a:chOff x="2820960" y="3705120"/>
              <a:chExt cx="44280" cy="135000"/>
            </a:xfrm>
          </p:grpSpPr>
          <p:sp>
            <p:nvSpPr>
              <p:cNvPr id="375" name=""/>
              <p:cNvSpPr/>
              <p:nvPr/>
            </p:nvSpPr>
            <p:spPr>
              <a:xfrm>
                <a:off x="2820960" y="370512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20960" y="3797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716360" y="3602160"/>
              <a:ext cx="6634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5120" y="361620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38840" y="361620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70480" y="3602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0600" y="3602160"/>
              <a:ext cx="239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79840" y="3602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196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568680" y="3716280"/>
              <a:ext cx="42840" cy="123840"/>
              <a:chOff x="3568680" y="3716280"/>
              <a:chExt cx="42840" cy="123840"/>
            </a:xfrm>
          </p:grpSpPr>
          <p:sp>
            <p:nvSpPr>
              <p:cNvPr id="385" name=""/>
              <p:cNvSpPr/>
              <p:nvPr/>
            </p:nvSpPr>
            <p:spPr>
              <a:xfrm>
                <a:off x="3568680" y="3716280"/>
                <a:ext cx="428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68680" y="37972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4038480" y="3602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45120" y="3602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8680" y="361620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233960" y="3705120"/>
              <a:ext cx="44280" cy="135000"/>
              <a:chOff x="4233960" y="3705120"/>
              <a:chExt cx="44280" cy="135000"/>
            </a:xfrm>
          </p:grpSpPr>
          <p:sp>
            <p:nvSpPr>
              <p:cNvPr id="391" name=""/>
              <p:cNvSpPr/>
              <p:nvPr/>
            </p:nvSpPr>
            <p:spPr>
              <a:xfrm>
                <a:off x="4233960" y="370512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33960" y="3797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303120" y="3960720"/>
            <a:ext cx="6276960" cy="1927080"/>
            <a:chOff x="303120" y="3960720"/>
            <a:chExt cx="6276960" cy="1927080"/>
          </a:xfrm>
        </p:grpSpPr>
        <p:grpSp>
          <p:nvGrpSpPr>
            <p:cNvPr id="394" name=""/>
            <p:cNvGrpSpPr/>
            <p:nvPr/>
          </p:nvGrpSpPr>
          <p:grpSpPr>
            <a:xfrm>
              <a:off x="376200" y="3960720"/>
              <a:ext cx="6203880" cy="198360"/>
              <a:chOff x="376200" y="3960720"/>
              <a:chExt cx="6203880" cy="198360"/>
            </a:xfrm>
          </p:grpSpPr>
          <p:sp>
            <p:nvSpPr>
              <p:cNvPr id="395" name=""/>
              <p:cNvSpPr txBox="1"/>
              <p:nvPr/>
            </p:nvSpPr>
            <p:spPr>
              <a:xfrm>
                <a:off x="1087560" y="3960720"/>
                <a:ext cx="290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5703840" y="3960720"/>
                <a:ext cx="87624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376200" y="3960720"/>
                <a:ext cx="2476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800280" y="3960720"/>
                <a:ext cx="2174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2660760" y="396072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1776240" y="3960720"/>
                <a:ext cx="4478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4738680" y="3960720"/>
                <a:ext cx="4618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5232240" y="3971880"/>
                <a:ext cx="417600" cy="17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395520" y="3960720"/>
                <a:ext cx="6620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4073400" y="3960720"/>
                <a:ext cx="42696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12840" y="4067280"/>
              <a:ext cx="6221520" cy="612360"/>
              <a:chOff x="312840" y="4067280"/>
              <a:chExt cx="6221520" cy="612360"/>
            </a:xfrm>
          </p:grpSpPr>
          <p:sp>
            <p:nvSpPr>
              <p:cNvPr id="406" name=""/>
              <p:cNvSpPr/>
              <p:nvPr/>
            </p:nvSpPr>
            <p:spPr>
              <a:xfrm>
                <a:off x="1047600" y="406728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77800" y="409248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134928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155592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7152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113040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75400" y="4067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81680" y="4067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9444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572616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59450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61628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5870520" y="4181400"/>
                <a:ext cx="44280" cy="123840"/>
                <a:chOff x="5870520" y="4181400"/>
                <a:chExt cx="44280" cy="123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870520" y="418140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70520" y="4262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6307200" y="4067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636912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83440" y="4227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60400" y="4067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2840" y="4067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640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>
                <a:off x="39528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0156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5240" y="4067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>
                <a:off x="86688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67040" y="4067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78000" y="4081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1955880" y="4170240"/>
                <a:ext cx="42840" cy="135000"/>
                <a:chOff x="1955880" y="4170240"/>
                <a:chExt cx="42840" cy="1350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955880" y="417024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955880" y="4262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2392200" y="4067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68440" y="4227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224640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243036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203832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31960" y="4067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2695680" y="442584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40040" y="406728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2160" y="4081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2827440" y="4170240"/>
                <a:ext cx="44280" cy="135000"/>
                <a:chOff x="2827440" y="4170240"/>
                <a:chExt cx="44280" cy="135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827440" y="4170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827440" y="4262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 txBox="1"/>
              <p:nvPr/>
            </p:nvSpPr>
            <p:spPr>
              <a:xfrm>
                <a:off x="311940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290196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1836720" y="4425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22840" y="406728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5160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50036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52214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44960" y="408132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479592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76960" y="4067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542772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67080" y="406728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34304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6320" y="4067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0844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575160" y="4181400"/>
                <a:ext cx="42840" cy="123840"/>
                <a:chOff x="3575160" y="4181400"/>
                <a:chExt cx="42840" cy="1238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575160" y="418140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575160" y="4262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 txBox="1"/>
              <p:nvPr/>
            </p:nvSpPr>
            <p:spPr>
              <a:xfrm>
                <a:off x="385452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>
                <a:off x="363708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44960" y="4067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>
                <a:off x="409572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51240" y="4067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75160" y="4081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4240080" y="4170240"/>
                <a:ext cx="44280" cy="135000"/>
                <a:chOff x="4240080" y="4170240"/>
                <a:chExt cx="44280" cy="135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240080" y="4170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240080" y="4262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 txBox="1"/>
              <p:nvPr/>
            </p:nvSpPr>
            <p:spPr>
              <a:xfrm>
                <a:off x="452124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 txBox="1"/>
              <p:nvPr/>
            </p:nvSpPr>
            <p:spPr>
              <a:xfrm>
                <a:off x="4314960" y="4425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09600" y="4556160"/>
              <a:ext cx="6221520" cy="612720"/>
              <a:chOff x="309600" y="4556160"/>
              <a:chExt cx="6221520" cy="612720"/>
            </a:xfrm>
          </p:grpSpPr>
          <p:sp>
            <p:nvSpPr>
              <p:cNvPr id="478" name=""/>
              <p:cNvSpPr/>
              <p:nvPr/>
            </p:nvSpPr>
            <p:spPr>
              <a:xfrm>
                <a:off x="1044720" y="455616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74920" y="458136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134604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155268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6828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112716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72160" y="4556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78440" y="4556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9120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>
                <a:off x="572292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594216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615960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867280" y="4670280"/>
                <a:ext cx="44280" cy="123840"/>
                <a:chOff x="5867280" y="4670280"/>
                <a:chExt cx="44280" cy="1238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867280" y="467028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867280" y="4751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6303960" y="4556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36588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80200" y="4716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57520" y="4556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9600" y="4556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520" y="4570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39204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832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92000" y="4556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86364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63800" y="4556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17476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952640" y="4659480"/>
                <a:ext cx="42840" cy="134640"/>
                <a:chOff x="1952640" y="4659480"/>
                <a:chExt cx="42840" cy="1346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952640" y="46594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52640" y="4751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2389320" y="4556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365200" y="4716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>
                <a:off x="224316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242712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203508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29080" y="4556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2692440" y="491508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36800" y="455616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59280" y="457056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2824200" y="4659480"/>
                <a:ext cx="44280" cy="134640"/>
                <a:chOff x="2824200" y="4659480"/>
                <a:chExt cx="44280" cy="134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824200" y="46594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824200" y="4751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 txBox="1"/>
              <p:nvPr/>
            </p:nvSpPr>
            <p:spPr>
              <a:xfrm>
                <a:off x="311616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289872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1833480" y="491508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19600" y="455616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148360" y="457056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500076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521820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41720" y="4570560"/>
                <a:ext cx="180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479268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73720" y="4556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542448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63840" y="455616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342756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83080" y="4556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0520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3571920" y="4670280"/>
                <a:ext cx="42840" cy="123840"/>
                <a:chOff x="3571920" y="4670280"/>
                <a:chExt cx="42840" cy="1238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3571920" y="467028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571920" y="4751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 txBox="1"/>
              <p:nvPr/>
            </p:nvSpPr>
            <p:spPr>
              <a:xfrm>
                <a:off x="385128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363384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41720" y="4556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409248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48000" y="4556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471920" y="457056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4237200" y="4659480"/>
                <a:ext cx="44280" cy="134640"/>
                <a:chOff x="4237200" y="4659480"/>
                <a:chExt cx="44280" cy="1346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237200" y="46594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37200" y="4751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 txBox="1"/>
              <p:nvPr/>
            </p:nvSpPr>
            <p:spPr>
              <a:xfrm>
                <a:off x="451800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4311720" y="491508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06360" y="5045040"/>
              <a:ext cx="6221520" cy="612720"/>
              <a:chOff x="306360" y="5045040"/>
              <a:chExt cx="6221520" cy="612720"/>
            </a:xfrm>
          </p:grpSpPr>
          <p:sp>
            <p:nvSpPr>
              <p:cNvPr id="550" name=""/>
              <p:cNvSpPr/>
              <p:nvPr/>
            </p:nvSpPr>
            <p:spPr>
              <a:xfrm>
                <a:off x="1041480" y="504504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471680" y="507060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134316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>
                <a:off x="154944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6540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112392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68920" y="5045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75200" y="5045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8796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71968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593892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615636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5864400" y="5159520"/>
                <a:ext cx="44280" cy="123480"/>
                <a:chOff x="5864400" y="5159520"/>
                <a:chExt cx="44280" cy="123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5864400" y="515952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864400" y="52401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6300720" y="5045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63626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76960" y="520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54280" y="5045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06360" y="5045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028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38880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59544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9120" y="5045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>
                <a:off x="86040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60560" y="5045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7188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1949400" y="5148360"/>
                <a:ext cx="42840" cy="134640"/>
                <a:chOff x="1949400" y="5148360"/>
                <a:chExt cx="42840" cy="134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949400" y="51483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949400" y="52401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2386080" y="5045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62320" y="520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 txBox="1"/>
              <p:nvPr/>
            </p:nvSpPr>
            <p:spPr>
              <a:xfrm>
                <a:off x="223992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24242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203184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25840" y="5045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2689200" y="540396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33560" y="504504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56040" y="505944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2820960" y="5148360"/>
                <a:ext cx="44280" cy="134640"/>
                <a:chOff x="2820960" y="5148360"/>
                <a:chExt cx="44280" cy="1346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820960" y="5148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820960" y="52401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 txBox="1"/>
              <p:nvPr/>
            </p:nvSpPr>
            <p:spPr>
              <a:xfrm>
                <a:off x="311292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289548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1830240" y="5403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16360" y="504504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45120" y="5059440"/>
                <a:ext cx="144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499752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521496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938840" y="5059440"/>
                <a:ext cx="1440" cy="30456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47894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370480" y="5045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54212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60600" y="504504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342432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79840" y="5045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0196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3568680" y="5159520"/>
                <a:ext cx="42840" cy="123480"/>
                <a:chOff x="3568680" y="5159520"/>
                <a:chExt cx="42840" cy="123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568680" y="515952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568680" y="52401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 txBox="1"/>
              <p:nvPr/>
            </p:nvSpPr>
            <p:spPr>
              <a:xfrm>
                <a:off x="38480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363060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38480" y="5045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408924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45120" y="5045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68680" y="5059440"/>
                <a:ext cx="1800" cy="315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4233960" y="5148360"/>
                <a:ext cx="44280" cy="134640"/>
                <a:chOff x="4233960" y="5148360"/>
                <a:chExt cx="44280" cy="1346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233960" y="5148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233960" y="52401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 txBox="1"/>
              <p:nvPr/>
            </p:nvSpPr>
            <p:spPr>
              <a:xfrm>
                <a:off x="451476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4308480" y="5403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038240" y="5533920"/>
              <a:ext cx="665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68440" y="555948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6216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5680" y="553392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72320" y="553392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8472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5861160" y="5648400"/>
              <a:ext cx="44280" cy="123840"/>
              <a:chOff x="5861160" y="5648400"/>
              <a:chExt cx="44280" cy="123840"/>
            </a:xfrm>
          </p:grpSpPr>
          <p:sp>
            <p:nvSpPr>
              <p:cNvPr id="628" name=""/>
              <p:cNvSpPr/>
              <p:nvPr/>
            </p:nvSpPr>
            <p:spPr>
              <a:xfrm>
                <a:off x="5861160" y="56484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1160" y="572940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6297480" y="553392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73720" y="569448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51040" y="553392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120" y="553392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704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5880" y="553392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57320" y="553392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864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946160" y="5637240"/>
              <a:ext cx="42840" cy="135000"/>
              <a:chOff x="1946160" y="5637240"/>
              <a:chExt cx="42840" cy="135000"/>
            </a:xfrm>
          </p:grpSpPr>
          <p:sp>
            <p:nvSpPr>
              <p:cNvPr id="639" name=""/>
              <p:cNvSpPr/>
              <p:nvPr/>
            </p:nvSpPr>
            <p:spPr>
              <a:xfrm>
                <a:off x="1946160" y="56372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46160" y="57294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382840" y="553392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9080" y="569448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22600" y="553392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30680" y="5533920"/>
              <a:ext cx="444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52800" y="554832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2817720" y="5637240"/>
              <a:ext cx="44280" cy="135000"/>
              <a:chOff x="2817720" y="5637240"/>
              <a:chExt cx="44280" cy="135000"/>
            </a:xfrm>
          </p:grpSpPr>
          <p:sp>
            <p:nvSpPr>
              <p:cNvPr id="647" name=""/>
              <p:cNvSpPr/>
              <p:nvPr/>
            </p:nvSpPr>
            <p:spPr>
              <a:xfrm>
                <a:off x="2817720" y="563724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17720" y="572940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4713120" y="5533920"/>
              <a:ext cx="6634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4188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5600" y="554832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67240" y="553392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57720" y="5533920"/>
              <a:ext cx="239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76600" y="553392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98720" y="5548320"/>
              <a:ext cx="180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565440" y="5648400"/>
              <a:ext cx="42840" cy="123840"/>
              <a:chOff x="3565440" y="5648400"/>
              <a:chExt cx="42840" cy="123840"/>
            </a:xfrm>
          </p:grpSpPr>
          <p:sp>
            <p:nvSpPr>
              <p:cNvPr id="657" name=""/>
              <p:cNvSpPr/>
              <p:nvPr/>
            </p:nvSpPr>
            <p:spPr>
              <a:xfrm>
                <a:off x="3565440" y="5648400"/>
                <a:ext cx="428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565440" y="57294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4035600" y="553392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41880" y="553392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65800" y="5548320"/>
              <a:ext cx="1440" cy="31608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230720" y="5637240"/>
              <a:ext cx="44280" cy="135000"/>
              <a:chOff x="4230720" y="5637240"/>
              <a:chExt cx="44280" cy="135000"/>
            </a:xfrm>
          </p:grpSpPr>
          <p:sp>
            <p:nvSpPr>
              <p:cNvPr id="663" name=""/>
              <p:cNvSpPr/>
              <p:nvPr/>
            </p:nvSpPr>
            <p:spPr>
              <a:xfrm>
                <a:off x="4230720" y="563724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30720" y="572940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299880" y="5892840"/>
            <a:ext cx="6276960" cy="1927080"/>
            <a:chOff x="299880" y="5892840"/>
            <a:chExt cx="6276960" cy="1927080"/>
          </a:xfrm>
        </p:grpSpPr>
        <p:grpSp>
          <p:nvGrpSpPr>
            <p:cNvPr id="666" name=""/>
            <p:cNvGrpSpPr/>
            <p:nvPr/>
          </p:nvGrpSpPr>
          <p:grpSpPr>
            <a:xfrm>
              <a:off x="372960" y="5892840"/>
              <a:ext cx="6203880" cy="198360"/>
              <a:chOff x="372960" y="5892840"/>
              <a:chExt cx="6203880" cy="198360"/>
            </a:xfrm>
          </p:grpSpPr>
          <p:sp>
            <p:nvSpPr>
              <p:cNvPr id="667" name=""/>
              <p:cNvSpPr txBox="1"/>
              <p:nvPr/>
            </p:nvSpPr>
            <p:spPr>
              <a:xfrm>
                <a:off x="1084320" y="5892840"/>
                <a:ext cx="290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istan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5700600" y="5892840"/>
                <a:ext cx="876240" cy="18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B for distance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or 400m)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372960" y="5892840"/>
                <a:ext cx="2476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p no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797040" y="5892840"/>
                <a:ext cx="2174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ok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2657520" y="589284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1773360" y="5892840"/>
                <a:ext cx="4478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val spli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4735440" y="5892840"/>
                <a:ext cx="46188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nsity (%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5229360" y="5904000"/>
                <a:ext cx="417600" cy="17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   R,H,M,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3392640" y="5892840"/>
                <a:ext cx="66204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t Px min:sec  o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4070520" y="5892840"/>
                <a:ext cx="426960" cy="1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N min:sec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09600" y="5999040"/>
              <a:ext cx="6221520" cy="612720"/>
              <a:chOff x="309600" y="5999040"/>
              <a:chExt cx="6221520" cy="612720"/>
            </a:xfrm>
          </p:grpSpPr>
          <p:sp>
            <p:nvSpPr>
              <p:cNvPr id="678" name=""/>
              <p:cNvSpPr/>
              <p:nvPr/>
            </p:nvSpPr>
            <p:spPr>
              <a:xfrm>
                <a:off x="1044720" y="599904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74920" y="60246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134604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155268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26828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 txBox="1"/>
              <p:nvPr/>
            </p:nvSpPr>
            <p:spPr>
              <a:xfrm>
                <a:off x="112716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72160" y="5999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78440" y="5999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09120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572292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594216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 txBox="1"/>
              <p:nvPr/>
            </p:nvSpPr>
            <p:spPr>
              <a:xfrm>
                <a:off x="615960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5867280" y="6113520"/>
                <a:ext cx="44280" cy="123840"/>
                <a:chOff x="5867280" y="6113520"/>
                <a:chExt cx="44280" cy="12384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867280" y="611352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867280" y="6194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6303960" y="5999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636588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80200" y="61596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57520" y="5999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9600" y="5999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33520" y="601344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39204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59832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2000" y="5999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86364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963800" y="5999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7476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952640" y="6102360"/>
                <a:ext cx="42840" cy="135000"/>
                <a:chOff x="1952640" y="6102360"/>
                <a:chExt cx="42840" cy="1350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952640" y="610236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952640" y="619452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"/>
              <p:cNvSpPr/>
              <p:nvPr/>
            </p:nvSpPr>
            <p:spPr>
              <a:xfrm>
                <a:off x="2389320" y="599904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365200" y="61596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>
                <a:off x="224316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42712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03508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29080" y="5999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2692440" y="635796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36800" y="599904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59280" y="601344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2824200" y="6102360"/>
                <a:ext cx="44280" cy="135000"/>
                <a:chOff x="2824200" y="6102360"/>
                <a:chExt cx="44280" cy="1350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2824200" y="6102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824200" y="6194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 txBox="1"/>
              <p:nvPr/>
            </p:nvSpPr>
            <p:spPr>
              <a:xfrm>
                <a:off x="311616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289872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1833480" y="635796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719600" y="599904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48360" y="601344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500076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521820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41720" y="6013440"/>
                <a:ext cx="180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479268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73720" y="5999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542448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363840" y="599904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342756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583080" y="5999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0520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3571920" y="6113520"/>
                <a:ext cx="42840" cy="123840"/>
                <a:chOff x="3571920" y="6113520"/>
                <a:chExt cx="42840" cy="1238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571920" y="611352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571920" y="619452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"/>
              <p:cNvSpPr txBox="1"/>
              <p:nvPr/>
            </p:nvSpPr>
            <p:spPr>
              <a:xfrm>
                <a:off x="385128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363384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041720" y="599904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409248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248000" y="599904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471920" y="601344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4237200" y="6102360"/>
                <a:ext cx="44280" cy="135000"/>
                <a:chOff x="4237200" y="6102360"/>
                <a:chExt cx="44280" cy="1350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237200" y="610236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237200" y="61945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"/>
              <p:cNvSpPr txBox="1"/>
              <p:nvPr/>
            </p:nvSpPr>
            <p:spPr>
              <a:xfrm>
                <a:off x="451800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>
                <a:off x="4311720" y="635796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306360" y="6488280"/>
              <a:ext cx="6221520" cy="612360"/>
              <a:chOff x="306360" y="6488280"/>
              <a:chExt cx="6221520" cy="612360"/>
            </a:xfrm>
          </p:grpSpPr>
          <p:sp>
            <p:nvSpPr>
              <p:cNvPr id="750" name=""/>
              <p:cNvSpPr/>
              <p:nvPr/>
            </p:nvSpPr>
            <p:spPr>
              <a:xfrm>
                <a:off x="1041480" y="648828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71680" y="651348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134316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154944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26540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112392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8920" y="6488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75200" y="6488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8796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 txBox="1"/>
              <p:nvPr/>
            </p:nvSpPr>
            <p:spPr>
              <a:xfrm>
                <a:off x="571968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593892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615636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5864400" y="6602400"/>
                <a:ext cx="44280" cy="123840"/>
                <a:chOff x="5864400" y="6602400"/>
                <a:chExt cx="44280" cy="1238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864400" y="660240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864400" y="6683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6300720" y="6488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 txBox="1"/>
              <p:nvPr/>
            </p:nvSpPr>
            <p:spPr>
              <a:xfrm>
                <a:off x="63626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76960" y="6648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54280" y="6488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6360" y="6488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028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 txBox="1"/>
              <p:nvPr/>
            </p:nvSpPr>
            <p:spPr>
              <a:xfrm>
                <a:off x="38880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 txBox="1"/>
              <p:nvPr/>
            </p:nvSpPr>
            <p:spPr>
              <a:xfrm>
                <a:off x="59544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9120" y="6488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86040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960560" y="6488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17188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1949400" y="6591240"/>
                <a:ext cx="42840" cy="135000"/>
                <a:chOff x="1949400" y="6591240"/>
                <a:chExt cx="42840" cy="1350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1949400" y="659124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949400" y="6683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2386080" y="648828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62320" y="66484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>
                <a:off x="223992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 txBox="1"/>
              <p:nvPr/>
            </p:nvSpPr>
            <p:spPr>
              <a:xfrm>
                <a:off x="24242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03184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625840" y="6488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>
                <a:off x="2689200" y="684684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833560" y="648828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56040" y="6502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2820960" y="6591240"/>
                <a:ext cx="44280" cy="135000"/>
                <a:chOff x="2820960" y="6591240"/>
                <a:chExt cx="44280" cy="135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820960" y="6591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820960" y="6683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 txBox="1"/>
              <p:nvPr/>
            </p:nvSpPr>
            <p:spPr>
              <a:xfrm>
                <a:off x="311292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>
                <a:off x="289548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1830240" y="684684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716360" y="648828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45120" y="650232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499752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521496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38840" y="650232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47894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70480" y="6488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 txBox="1"/>
              <p:nvPr/>
            </p:nvSpPr>
            <p:spPr>
              <a:xfrm>
                <a:off x="54212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60600" y="648828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342432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79840" y="6488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80196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3568680" y="6602400"/>
                <a:ext cx="42840" cy="123840"/>
                <a:chOff x="3568680" y="6602400"/>
                <a:chExt cx="42840" cy="1238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568680" y="660240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568680" y="668340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"/>
              <p:cNvSpPr txBox="1"/>
              <p:nvPr/>
            </p:nvSpPr>
            <p:spPr>
              <a:xfrm>
                <a:off x="38480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 txBox="1"/>
              <p:nvPr/>
            </p:nvSpPr>
            <p:spPr>
              <a:xfrm>
                <a:off x="363060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8480" y="648828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408924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245120" y="648828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468680" y="650232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4233960" y="6591240"/>
                <a:ext cx="44280" cy="135000"/>
                <a:chOff x="4233960" y="6591240"/>
                <a:chExt cx="44280" cy="1350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233960" y="659124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233960" y="668340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"/>
              <p:cNvSpPr txBox="1"/>
              <p:nvPr/>
            </p:nvSpPr>
            <p:spPr>
              <a:xfrm>
                <a:off x="451476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308480" y="684684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303120" y="6977160"/>
              <a:ext cx="6221520" cy="612360"/>
              <a:chOff x="303120" y="6977160"/>
              <a:chExt cx="6221520" cy="612360"/>
            </a:xfrm>
          </p:grpSpPr>
          <p:sp>
            <p:nvSpPr>
              <p:cNvPr id="822" name=""/>
              <p:cNvSpPr/>
              <p:nvPr/>
            </p:nvSpPr>
            <p:spPr>
              <a:xfrm>
                <a:off x="1038240" y="6977160"/>
                <a:ext cx="6652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68440" y="700236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 txBox="1"/>
              <p:nvPr/>
            </p:nvSpPr>
            <p:spPr>
              <a:xfrm>
                <a:off x="133992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154620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6216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112068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665680" y="6977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72320" y="6977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8472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571644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593568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615312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5861160" y="7091280"/>
                <a:ext cx="44280" cy="123840"/>
                <a:chOff x="5861160" y="7091280"/>
                <a:chExt cx="44280" cy="1238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61160" y="7091280"/>
                  <a:ext cx="4428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61160" y="7172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"/>
              <p:cNvSpPr/>
              <p:nvPr/>
            </p:nvSpPr>
            <p:spPr>
              <a:xfrm>
                <a:off x="6297480" y="6977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63594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3720" y="7137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751040" y="6977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3120" y="6977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2704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38592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59220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85880" y="6977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85716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57320" y="6977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16864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1946160" y="7080120"/>
                <a:ext cx="42840" cy="135000"/>
                <a:chOff x="1946160" y="7080120"/>
                <a:chExt cx="42840" cy="1350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946160" y="708012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46160" y="7172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2382840" y="6977160"/>
                <a:ext cx="2271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59080" y="71373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223668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24210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02896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22600" y="6977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2685960" y="7335720"/>
                <a:ext cx="11448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830680" y="6977160"/>
                <a:ext cx="444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052800" y="69912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2817720" y="7080120"/>
                <a:ext cx="44280" cy="135000"/>
                <a:chOff x="2817720" y="7080120"/>
                <a:chExt cx="44280" cy="1350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817720" y="70801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817720" y="7172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4" name=""/>
              <p:cNvSpPr txBox="1"/>
              <p:nvPr/>
            </p:nvSpPr>
            <p:spPr>
              <a:xfrm>
                <a:off x="311004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28926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>
                <a:off x="1827360" y="7335720"/>
                <a:ext cx="5724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713120" y="6977160"/>
                <a:ext cx="66348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14188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499428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521172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935600" y="6991200"/>
                <a:ext cx="1440" cy="30492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47862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67240" y="6977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54180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357720" y="6977160"/>
                <a:ext cx="23976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342108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576600" y="6977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798720" y="6991200"/>
                <a:ext cx="180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3565440" y="7091280"/>
                <a:ext cx="42840" cy="123840"/>
                <a:chOff x="3565440" y="7091280"/>
                <a:chExt cx="42840" cy="1238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3565440" y="7091280"/>
                  <a:ext cx="42840" cy="44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565440" y="7172280"/>
                  <a:ext cx="4284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"/>
              <p:cNvSpPr txBox="1"/>
              <p:nvPr/>
            </p:nvSpPr>
            <p:spPr>
              <a:xfrm>
                <a:off x="384480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62736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035600" y="6977160"/>
                <a:ext cx="22860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408636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241880" y="6977160"/>
                <a:ext cx="446040" cy="35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465800" y="6991200"/>
                <a:ext cx="1440" cy="316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4230720" y="7080120"/>
                <a:ext cx="44280" cy="135000"/>
                <a:chOff x="4230720" y="7080120"/>
                <a:chExt cx="44280" cy="1350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230720" y="708012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230720" y="7172280"/>
                  <a:ext cx="44280" cy="42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1" name=""/>
              <p:cNvSpPr txBox="1"/>
              <p:nvPr/>
            </p:nvSpPr>
            <p:spPr>
              <a:xfrm>
                <a:off x="451152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4305240" y="7335720"/>
                <a:ext cx="11448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1035000" y="7466040"/>
              <a:ext cx="665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65200" y="7491240"/>
              <a:ext cx="180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892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2440" y="7466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69080" y="7466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184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5857920" y="7580160"/>
              <a:ext cx="44280" cy="123840"/>
              <a:chOff x="5857920" y="7580160"/>
              <a:chExt cx="44280" cy="123840"/>
            </a:xfrm>
          </p:grpSpPr>
          <p:sp>
            <p:nvSpPr>
              <p:cNvPr id="900" name=""/>
              <p:cNvSpPr/>
              <p:nvPr/>
            </p:nvSpPr>
            <p:spPr>
              <a:xfrm>
                <a:off x="5857920" y="7580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57920" y="76611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6294600" y="7466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70480" y="762624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47800" y="7466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9880" y="7466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23800" y="7480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2640" y="7466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954080" y="7466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6540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1943280" y="7569360"/>
              <a:ext cx="42840" cy="134640"/>
              <a:chOff x="1943280" y="7569360"/>
              <a:chExt cx="42840" cy="134640"/>
            </a:xfrm>
          </p:grpSpPr>
          <p:sp>
            <p:nvSpPr>
              <p:cNvPr id="911" name=""/>
              <p:cNvSpPr/>
              <p:nvPr/>
            </p:nvSpPr>
            <p:spPr>
              <a:xfrm>
                <a:off x="1943280" y="756936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43280" y="766116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9600" y="7466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55840" y="762624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19360" y="7466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27440" y="7466040"/>
              <a:ext cx="444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49560" y="748044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814480" y="7569360"/>
              <a:ext cx="44280" cy="134640"/>
              <a:chOff x="2814480" y="7569360"/>
              <a:chExt cx="44280" cy="134640"/>
            </a:xfrm>
          </p:grpSpPr>
          <p:sp>
            <p:nvSpPr>
              <p:cNvPr id="919" name=""/>
              <p:cNvSpPr/>
              <p:nvPr/>
            </p:nvSpPr>
            <p:spPr>
              <a:xfrm>
                <a:off x="2814480" y="75693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14480" y="76611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710240" y="7466040"/>
              <a:ext cx="6634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138640" y="7480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32360" y="748044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000" y="7466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54480" y="7466040"/>
              <a:ext cx="239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73360" y="7466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9584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3562200" y="7580160"/>
              <a:ext cx="42840" cy="123840"/>
              <a:chOff x="3562200" y="7580160"/>
              <a:chExt cx="42840" cy="123840"/>
            </a:xfrm>
          </p:grpSpPr>
          <p:sp>
            <p:nvSpPr>
              <p:cNvPr id="929" name=""/>
              <p:cNvSpPr/>
              <p:nvPr/>
            </p:nvSpPr>
            <p:spPr>
              <a:xfrm>
                <a:off x="3562200" y="7580160"/>
                <a:ext cx="428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2200" y="766116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4032360" y="7466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38640" y="7466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62560" y="7480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4227480" y="7569360"/>
              <a:ext cx="44280" cy="134640"/>
              <a:chOff x="4227480" y="7569360"/>
              <a:chExt cx="44280" cy="134640"/>
            </a:xfrm>
          </p:grpSpPr>
          <p:sp>
            <p:nvSpPr>
              <p:cNvPr id="935" name=""/>
              <p:cNvSpPr/>
              <p:nvPr/>
            </p:nvSpPr>
            <p:spPr>
              <a:xfrm>
                <a:off x="4227480" y="75693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27480" y="76611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369720" y="7824960"/>
            <a:ext cx="6203880" cy="198360"/>
            <a:chOff x="369720" y="7824960"/>
            <a:chExt cx="6203880" cy="198360"/>
          </a:xfrm>
        </p:grpSpPr>
        <p:sp>
          <p:nvSpPr>
            <p:cNvPr id="938" name=""/>
            <p:cNvSpPr txBox="1"/>
            <p:nvPr/>
          </p:nvSpPr>
          <p:spPr>
            <a:xfrm>
              <a:off x="1081080" y="7824960"/>
              <a:ext cx="290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ta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5697360" y="7824960"/>
              <a:ext cx="876240" cy="18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B for distance 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or 400m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369720" y="7824960"/>
              <a:ext cx="2476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 no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793800" y="7824960"/>
              <a:ext cx="21744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ok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2654280" y="7824960"/>
              <a:ext cx="3031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t spli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770120" y="7824960"/>
              <a:ext cx="44784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 spli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4732200" y="7824960"/>
              <a:ext cx="4618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nsity (%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5226120" y="7835760"/>
              <a:ext cx="417600" cy="17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    R,H,M,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3389400" y="7824960"/>
              <a:ext cx="66204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t Px min:sec  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4067280" y="7824960"/>
              <a:ext cx="42696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min:se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06360" y="7931160"/>
            <a:ext cx="6221520" cy="612720"/>
            <a:chOff x="306360" y="7931160"/>
            <a:chExt cx="6221520" cy="612720"/>
          </a:xfrm>
        </p:grpSpPr>
        <p:sp>
          <p:nvSpPr>
            <p:cNvPr id="949" name=""/>
            <p:cNvSpPr/>
            <p:nvPr/>
          </p:nvSpPr>
          <p:spPr>
            <a:xfrm>
              <a:off x="1041480" y="7931160"/>
              <a:ext cx="665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71680" y="795672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134316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154944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6540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12392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68920" y="7931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75200" y="7931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8796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571968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593892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615636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5864400" y="8045280"/>
              <a:ext cx="44280" cy="123840"/>
              <a:chOff x="5864400" y="8045280"/>
              <a:chExt cx="44280" cy="123840"/>
            </a:xfrm>
          </p:grpSpPr>
          <p:sp>
            <p:nvSpPr>
              <p:cNvPr id="962" name=""/>
              <p:cNvSpPr/>
              <p:nvPr/>
            </p:nvSpPr>
            <p:spPr>
              <a:xfrm>
                <a:off x="5864400" y="804528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4400" y="8126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6300720" y="7931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63626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6960" y="809136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54280" y="7931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6360" y="7931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028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38880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59544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9120" y="7931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86040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60560" y="7931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7188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949400" y="8034480"/>
              <a:ext cx="42840" cy="134640"/>
              <a:chOff x="1949400" y="8034480"/>
              <a:chExt cx="42840" cy="134640"/>
            </a:xfrm>
          </p:grpSpPr>
          <p:sp>
            <p:nvSpPr>
              <p:cNvPr id="977" name=""/>
              <p:cNvSpPr/>
              <p:nvPr/>
            </p:nvSpPr>
            <p:spPr>
              <a:xfrm>
                <a:off x="1949400" y="80344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949400" y="81262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2386080" y="793116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62320" y="809136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223992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24242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203184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25840" y="7931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2689200" y="8290080"/>
              <a:ext cx="11448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33560" y="7931160"/>
              <a:ext cx="444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6040" y="794556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2820960" y="8034480"/>
              <a:ext cx="44280" cy="134640"/>
              <a:chOff x="2820960" y="8034480"/>
              <a:chExt cx="44280" cy="134640"/>
            </a:xfrm>
          </p:grpSpPr>
          <p:sp>
            <p:nvSpPr>
              <p:cNvPr id="989" name=""/>
              <p:cNvSpPr/>
              <p:nvPr/>
            </p:nvSpPr>
            <p:spPr>
              <a:xfrm>
                <a:off x="2820960" y="80344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820960" y="8126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1" name=""/>
            <p:cNvSpPr txBox="1"/>
            <p:nvPr/>
          </p:nvSpPr>
          <p:spPr>
            <a:xfrm>
              <a:off x="311292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289548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1830240" y="829008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716360" y="7931160"/>
              <a:ext cx="6634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45120" y="794556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99752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521496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38840" y="794556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47894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70480" y="7931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54212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60600" y="7931160"/>
              <a:ext cx="239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342432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79840" y="7931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0196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3568680" y="8045280"/>
              <a:ext cx="42840" cy="123840"/>
              <a:chOff x="3568680" y="8045280"/>
              <a:chExt cx="42840" cy="123840"/>
            </a:xfrm>
          </p:grpSpPr>
          <p:sp>
            <p:nvSpPr>
              <p:cNvPr id="1007" name=""/>
              <p:cNvSpPr/>
              <p:nvPr/>
            </p:nvSpPr>
            <p:spPr>
              <a:xfrm>
                <a:off x="3568680" y="8045280"/>
                <a:ext cx="428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68680" y="81262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9" name=""/>
            <p:cNvSpPr txBox="1"/>
            <p:nvPr/>
          </p:nvSpPr>
          <p:spPr>
            <a:xfrm>
              <a:off x="38480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 txBox="1"/>
            <p:nvPr/>
          </p:nvSpPr>
          <p:spPr>
            <a:xfrm>
              <a:off x="363060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38480" y="793116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408924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45120" y="793116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68680" y="794556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233960" y="8034480"/>
              <a:ext cx="44280" cy="134640"/>
              <a:chOff x="4233960" y="8034480"/>
              <a:chExt cx="44280" cy="134640"/>
            </a:xfrm>
          </p:grpSpPr>
          <p:sp>
            <p:nvSpPr>
              <p:cNvPr id="1016" name=""/>
              <p:cNvSpPr/>
              <p:nvPr/>
            </p:nvSpPr>
            <p:spPr>
              <a:xfrm>
                <a:off x="4233960" y="80344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33960" y="812628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 txBox="1"/>
            <p:nvPr/>
          </p:nvSpPr>
          <p:spPr>
            <a:xfrm>
              <a:off x="451476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4308480" y="829008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03120" y="8420040"/>
            <a:ext cx="6221520" cy="612720"/>
            <a:chOff x="303120" y="8420040"/>
            <a:chExt cx="6221520" cy="612720"/>
          </a:xfrm>
        </p:grpSpPr>
        <p:sp>
          <p:nvSpPr>
            <p:cNvPr id="1021" name=""/>
            <p:cNvSpPr/>
            <p:nvPr/>
          </p:nvSpPr>
          <p:spPr>
            <a:xfrm>
              <a:off x="1038240" y="8420040"/>
              <a:ext cx="665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68440" y="8445600"/>
              <a:ext cx="1440" cy="30456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133992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154620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6216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 txBox="1"/>
            <p:nvPr/>
          </p:nvSpPr>
          <p:spPr>
            <a:xfrm>
              <a:off x="112068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65680" y="8420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72320" y="8420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8472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571644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593568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615312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5861160" y="8534520"/>
              <a:ext cx="44280" cy="123840"/>
              <a:chOff x="5861160" y="8534520"/>
              <a:chExt cx="44280" cy="123840"/>
            </a:xfrm>
          </p:grpSpPr>
          <p:sp>
            <p:nvSpPr>
              <p:cNvPr id="1034" name=""/>
              <p:cNvSpPr/>
              <p:nvPr/>
            </p:nvSpPr>
            <p:spPr>
              <a:xfrm>
                <a:off x="5861160" y="85345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61160" y="861552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297480" y="8420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63594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73720" y="858060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51040" y="8420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3120" y="8420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2704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38592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59220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85880" y="8420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 txBox="1"/>
            <p:nvPr/>
          </p:nvSpPr>
          <p:spPr>
            <a:xfrm>
              <a:off x="85716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7320" y="8420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6864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946160" y="8523360"/>
              <a:ext cx="42840" cy="135000"/>
              <a:chOff x="1946160" y="8523360"/>
              <a:chExt cx="42840" cy="135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946160" y="852336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46160" y="86155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2382840" y="8420040"/>
              <a:ext cx="2271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59080" y="8580600"/>
              <a:ext cx="4428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23668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24210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202896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22600" y="8420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2685960" y="8778960"/>
              <a:ext cx="11448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30680" y="8420040"/>
              <a:ext cx="444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52800" y="843444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2817720" y="8523360"/>
              <a:ext cx="44280" cy="135000"/>
              <a:chOff x="2817720" y="8523360"/>
              <a:chExt cx="44280" cy="135000"/>
            </a:xfrm>
          </p:grpSpPr>
          <p:sp>
            <p:nvSpPr>
              <p:cNvPr id="1061" name=""/>
              <p:cNvSpPr/>
              <p:nvPr/>
            </p:nvSpPr>
            <p:spPr>
              <a:xfrm>
                <a:off x="2817720" y="85233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17720" y="861552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3" name=""/>
            <p:cNvSpPr txBox="1"/>
            <p:nvPr/>
          </p:nvSpPr>
          <p:spPr>
            <a:xfrm>
              <a:off x="311004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28926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1827360" y="8778960"/>
              <a:ext cx="5724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13120" y="8420040"/>
              <a:ext cx="6634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4188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499428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521172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35600" y="8434440"/>
              <a:ext cx="1440" cy="3049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>
              <a:off x="47862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67240" y="8420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54180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57720" y="8420040"/>
              <a:ext cx="239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342108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76600" y="8420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98720" y="8434440"/>
              <a:ext cx="180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3565440" y="8534520"/>
              <a:ext cx="42840" cy="123840"/>
              <a:chOff x="3565440" y="8534520"/>
              <a:chExt cx="42840" cy="12384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65440" y="8534520"/>
                <a:ext cx="428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565440" y="86155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 txBox="1"/>
            <p:nvPr/>
          </p:nvSpPr>
          <p:spPr>
            <a:xfrm>
              <a:off x="384480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362736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35600" y="8420040"/>
              <a:ext cx="22860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408636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41880" y="8420040"/>
              <a:ext cx="44604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65800" y="8434440"/>
              <a:ext cx="1440" cy="315720"/>
            </a:xfrm>
            <a:prstGeom prst="line">
              <a:avLst/>
            </a:prstGeom>
            <a:ln w="12600">
              <a:solidFill>
                <a:srgbClr val="919191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4230720" y="8523360"/>
              <a:ext cx="44280" cy="135000"/>
              <a:chOff x="4230720" y="8523360"/>
              <a:chExt cx="44280" cy="135000"/>
            </a:xfrm>
          </p:grpSpPr>
          <p:sp>
            <p:nvSpPr>
              <p:cNvPr id="1088" name=""/>
              <p:cNvSpPr/>
              <p:nvPr/>
            </p:nvSpPr>
            <p:spPr>
              <a:xfrm>
                <a:off x="4230720" y="852336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30720" y="8615520"/>
                <a:ext cx="44280" cy="42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 txBox="1"/>
            <p:nvPr/>
          </p:nvSpPr>
          <p:spPr>
            <a:xfrm>
              <a:off x="451152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4305240" y="8778960"/>
              <a:ext cx="114480" cy="25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partment of Physiology</dc:creator>
  <dc:description/>
  <dc:language>en-US</dc:language>
  <cp:lastModifiedBy>Will Hopkins</cp:lastModifiedBy>
  <cp:revision>0</cp:revision>
  <dc:subject/>
  <dc:title>No Slide Title</dc:title>
</cp:coreProperties>
</file>