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6DF01-9FC4-4F9A-BBF4-4F807AD30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χ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135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 txBox="1"/>
          <p:nvPr/>
        </p:nvSpPr>
        <p:spPr>
          <a:xfrm>
            <a:off x="241452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80200" y="255888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416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62140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27920" y="25588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14204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531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7230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4160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76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77368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394320" y="16462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2565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6868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9584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91192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52140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35804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652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7020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9736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8788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622920" y="22543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95760" y="292572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812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07324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8843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957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6450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2552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32552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2552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2552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53972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2552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63760" y="19512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87440" y="17985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6528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312920" y="16462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208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2597" y="803"/>
                </a:lnTo>
                <a:lnTo>
                  <a:pt x="5275" y="834"/>
                </a:lnTo>
                <a:lnTo>
                  <a:pt x="7948" y="874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234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45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4"/>
                  </a:lnTo>
                  <a:lnTo>
                    <a:pt x="7948" y="874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50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59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62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6"/>
                </a:moveTo>
                <a:lnTo>
                  <a:pt x="2632" y="6069"/>
                </a:lnTo>
                <a:lnTo>
                  <a:pt x="5269" y="3960"/>
                </a:lnTo>
                <a:lnTo>
                  <a:pt x="7947" y="0"/>
                </a:lnTo>
                <a:lnTo>
                  <a:pt x="10553" y="1490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66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69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72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77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99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302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315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320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325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330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335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55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